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B56-0CFF-4DA1-A8E4-1595235976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5691-3F57-44D9-AD17-8261389E78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944-9E87-4772-9078-0D33F1E6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ECA-4E24-4130-AB30-B4F6070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D1A-91D2-4135-9F61-522CAC35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649-15E9-4940-87FC-D7D6FA7F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74D-2D88-4A42-B1D1-4572A17A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6ED-D5D1-4DDB-9790-4C52CF4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B04-8F9D-4762-8A09-4FE98F3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D09-9209-4465-92A6-0E095A8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798-B1F0-46F8-88D2-92E505A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9EA-FD03-4448-B181-C317AA0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F1-29EA-46BF-B29F-190A76C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60D-CC07-4427-ABF7-9DD7E1F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63D4-473B-4A9F-9088-CE699FB5D2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4-08-12T02:19:25Z</dcterms:modified>
  <cp:revision>22</cp:revision>
  <dc:subject/>
  <dc:title>PowerPoint 演示文稿</dc:title>
</cp:coreProperties>
</file>