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7920"/>
            <a:ext cx="3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6783120" y="7920"/>
            <a:ext cx="3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650880" y="420840"/>
            <a:ext cx="5549760" cy="41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74640" y="4952520"/>
            <a:ext cx="5430960" cy="43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9699480"/>
            <a:ext cx="3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6595560" y="9699480"/>
            <a:ext cx="187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zh-CN" sz="1200" spc="-1" strike="noStrike">
                <a:solidFill>
                  <a:srgbClr val="3333cc"/>
                </a:solidFill>
                <a:latin typeface="Arial"/>
                <a:ea typeface="STKait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91F75CF-11E0-4FE8-985E-E342BFB003B5}" type="slidenum">
              <a:rPr b="0" lang="zh-CN" sz="1200" spc="-1" strike="noStrike">
                <a:solidFill>
                  <a:srgbClr val="3333cc"/>
                </a:solidFill>
                <a:latin typeface="Arial"/>
                <a:ea typeface="STKait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6392880" y="969768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011DCAF-F87B-48ED-83D6-CBDB5C1B445F}" type="slidenum">
              <a:rPr b="0" lang="zh-CN" sz="1200" spc="-1" strike="noStrike">
                <a:solidFill>
                  <a:srgbClr val="3333cc"/>
                </a:solidFill>
                <a:latin typeface="Arial"/>
                <a:ea typeface="STKait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7079-0658-4ADF-9DD1-6214526B6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34A3-CB96-4854-A74F-969C1280D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1941-9406-4EB4-80EA-139FACAA7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6F79-2E0F-4E8E-BEC5-1ED514451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5400" y="280800"/>
            <a:ext cx="8211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0572-12B5-4E61-B876-5A7AF2444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080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7480" y="16441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080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7480" y="3649320"/>
            <a:ext cx="264384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25CC-33AF-4DD3-A9DB-19296AB5A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3B66-ABAB-4E0F-9396-CB32A2D7B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C329-33D3-4B78-BDD2-24E75A378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5400" y="280800"/>
            <a:ext cx="82119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FB17-F180-42E2-A66E-7C1E0F830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3225-EA8D-40E1-AD7C-C95ED2CB4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6493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6D45-E125-4AEC-81F4-6FFAE771B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644120"/>
            <a:ext cx="40071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3649320"/>
            <a:ext cx="8211960" cy="18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20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A040-F259-44A7-8D7F-0332DC5C0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2560" indent="-42372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977760" indent="-2934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262160" indent="-2826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4" marL="1506600" indent="-2430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5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6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00" y="6581160"/>
            <a:ext cx="146160" cy="1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Book Antiqu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7B5-A355-4BBD-9009-7917343A7999}" type="slidenum">
              <a:rPr b="0" lang="zh-CN" sz="900" spc="-1" strike="noStrike">
                <a:solidFill>
                  <a:srgbClr val="000000"/>
                </a:solidFill>
                <a:latin typeface="Book Antiqua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0" descr="cnbmlogo"/>
          <p:cNvPicPr/>
          <p:nvPr/>
        </p:nvPicPr>
        <p:blipFill>
          <a:blip r:embed="rId3"/>
          <a:stretch/>
        </p:blipFill>
        <p:spPr>
          <a:xfrm>
            <a:off x="8508960" y="6154560"/>
            <a:ext cx="50796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74480" y="1644120"/>
            <a:ext cx="8211960" cy="38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2560" indent="-42372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977760" indent="-2934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262160" indent="-2826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4" marL="1506600" indent="-243000">
              <a:lnSpc>
                <a:spcPct val="95000"/>
              </a:lnSpc>
              <a:spcBef>
                <a:spcPts val="2064"/>
              </a:spcBef>
              <a:buClr>
                <a:srgbClr val="cc09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5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6" marL="1506600" indent="-243000">
              <a:lnSpc>
                <a:spcPct val="9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5400" y="280800"/>
            <a:ext cx="82119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1920" y="6237000"/>
            <a:ext cx="8636040" cy="3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89080" y="4869720"/>
            <a:ext cx="8635680" cy="4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STKaiti"/>
              <a:ea typeface="STKait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53200" y="6146640"/>
            <a:ext cx="2879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440" y="275400"/>
            <a:ext cx="68691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STKaiti"/>
              <a:ea typeface="STKait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4309560" y="664452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CF71D1-072F-4CC1-826C-9FD55FA779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TKait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361800" y="2263680"/>
            <a:ext cx="8426520" cy="731880"/>
            <a:chOff x="361800" y="2263680"/>
            <a:chExt cx="8426520" cy="731880"/>
          </a:xfrm>
        </p:grpSpPr>
        <p:sp>
          <p:nvSpPr>
            <p:cNvPr id="91" name="AutoShape 7"/>
            <p:cNvSpPr/>
            <p:nvPr/>
          </p:nvSpPr>
          <p:spPr>
            <a:xfrm>
              <a:off x="361800" y="2263680"/>
              <a:ext cx="787680" cy="731880"/>
            </a:xfrm>
            <a:prstGeom prst="octagon">
              <a:avLst>
                <a:gd name="adj" fmla="val 29287"/>
              </a:avLst>
            </a:prstGeom>
            <a:solidFill>
              <a:srgbClr val="b73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755640" y="2265120"/>
              <a:ext cx="8032680" cy="730440"/>
            </a:xfrm>
            <a:prstGeom prst="rect">
              <a:avLst/>
            </a:prstGeom>
            <a:gradFill rotWithShape="0">
              <a:gsLst>
                <a:gs pos="0">
                  <a:srgbClr val="b73f32"/>
                </a:gs>
                <a:gs pos="100000">
                  <a:srgbClr val="e7be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anchor="ctr">
              <a:noAutofit/>
            </a:bodyPr>
            <a:p>
              <a:pPr marL="171360" indent="-171360" algn="ctr">
                <a:lnSpc>
                  <a:spcPct val="9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361800" y="3990960"/>
            <a:ext cx="8426520" cy="731880"/>
            <a:chOff x="361800" y="3990960"/>
            <a:chExt cx="8426520" cy="731880"/>
          </a:xfrm>
        </p:grpSpPr>
        <p:sp>
          <p:nvSpPr>
            <p:cNvPr id="94" name="AutoShape 23"/>
            <p:cNvSpPr/>
            <p:nvPr/>
          </p:nvSpPr>
          <p:spPr>
            <a:xfrm>
              <a:off x="361800" y="3990960"/>
              <a:ext cx="787680" cy="731880"/>
            </a:xfrm>
            <a:prstGeom prst="octagon">
              <a:avLst>
                <a:gd name="adj" fmla="val 29287"/>
              </a:avLst>
            </a:prstGeom>
            <a:solidFill>
              <a:srgbClr val="b73f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Rectangle 24"/>
            <p:cNvSpPr/>
            <p:nvPr/>
          </p:nvSpPr>
          <p:spPr>
            <a:xfrm>
              <a:off x="755640" y="3992400"/>
              <a:ext cx="8032680" cy="730440"/>
            </a:xfrm>
            <a:prstGeom prst="rect">
              <a:avLst/>
            </a:prstGeom>
            <a:gradFill rotWithShape="0">
              <a:gsLst>
                <a:gs pos="0">
                  <a:srgbClr val="b73f32"/>
                </a:gs>
                <a:gs pos="100000">
                  <a:srgbClr val="e7be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anchor="ctr">
              <a:noAutofit/>
            </a:bodyPr>
            <a:p>
              <a:pPr marL="171360" indent="-171360" algn="ctr">
                <a:lnSpc>
                  <a:spcPct val="95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3"/>
          <p:cNvSpPr/>
          <p:nvPr/>
        </p:nvSpPr>
        <p:spPr>
          <a:xfrm>
            <a:off x="4309560" y="664452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0B6C69-2DBC-4ABF-A376-9CF22553C1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TKait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325440"/>
            <a:ext cx="9306000" cy="4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TKaiti"/>
                <a:ea typeface="STKaiti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371520" y="1125360"/>
            <a:ext cx="877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2:17:27Z</dcterms:created>
  <dc:creator>channons</dc:creator>
  <dc:description>Copyright 1999 MSDW</dc:description>
  <dc:language>en-US</dc:language>
  <cp:lastModifiedBy>吴潇</cp:lastModifiedBy>
  <cp:lastPrinted>1999-01-28T17:44:42Z</cp:lastPrinted>
  <dcterms:modified xsi:type="dcterms:W3CDTF">2014-03-14T07:29:39Z</dcterms:modified>
  <cp:revision>1643</cp:revision>
  <dc:subject/>
  <dc:title>Slide 1</dc:title>
</cp:coreProperties>
</file>