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7560"/>
            <a:ext cx="347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6032160" y="7560"/>
            <a:ext cx="754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644400" y="420480"/>
            <a:ext cx="5562720" cy="417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74280" y="4963680"/>
            <a:ext cx="54342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9719640"/>
            <a:ext cx="406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6600960" y="971964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zh-CN" sz="1200" spc="-1" strike="noStrike">
                <a:solidFill>
                  <a:srgbClr val="3333cc"/>
                </a:solidFill>
                <a:latin typeface="Arial"/>
                <a:ea typeface="STKait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0A0C695-EDF4-4E21-BE7C-1523B31C5F02}" type="slidenum">
              <a:rPr b="0" lang="zh-CN" sz="1200" spc="-1" strike="noStrike">
                <a:solidFill>
                  <a:srgbClr val="3333cc"/>
                </a:solidFill>
                <a:latin typeface="Arial"/>
                <a:ea typeface="STKait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6346080" y="972000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53E6F6F-3BB3-4926-A4A2-A5994FEBC05A}" type="slidenum">
              <a:rPr b="0" lang="zh-CN" sz="1200" spc="-1" strike="noStrike">
                <a:solidFill>
                  <a:srgbClr val="3333cc"/>
                </a:solidFill>
                <a:latin typeface="Arial"/>
                <a:ea typeface="STKait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F8BD-6849-4A28-A8A8-AAC7995DB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82119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" y="3649320"/>
            <a:ext cx="82119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F343-AFCF-48D4-9096-9ADD1372E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448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8E96-C737-414E-8D09-E55A964DC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800" y="16441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7480" y="16441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" y="36493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800" y="36493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7480" y="36493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EBAC-931E-4E07-AFB9-2D0920F75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74480" y="1644120"/>
            <a:ext cx="82119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82119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5400" y="280800"/>
            <a:ext cx="82119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448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74480" y="1644120"/>
            <a:ext cx="82119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E91F-F117-4F62-A72E-0F8BC03FF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252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" y="3649320"/>
            <a:ext cx="82119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82119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" y="3649320"/>
            <a:ext cx="82119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48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252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50800" y="16441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7480" y="16441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" y="36493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50800" y="36493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7480" y="36493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82119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3BEC-7D29-403B-984B-39527A509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767F-B808-4AC6-9474-EA0765531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63EC-0A51-4E33-AAD5-6D403E6DB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400" y="280800"/>
            <a:ext cx="82119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0ED8-A505-47E5-91B4-4D61CBAFB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7448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9E43-B41B-470C-999F-BD11E61D5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59EE-F47F-4F78-92D7-4B7C9ACC2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3649320"/>
            <a:ext cx="82119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D088-1411-4E79-94CD-4CCFA6748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4480" y="1644120"/>
            <a:ext cx="82119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682560" indent="-42372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977760" indent="-29340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3" marL="1262160" indent="-28260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4" marL="1506600" indent="-24300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5" marL="1506600" indent="-24300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6" marL="1506600" indent="-24300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00" y="6581160"/>
            <a:ext cx="146160" cy="1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Book Antiqu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33EB-9789-4261-94A4-6C2218764306}" type="slidenum">
              <a:rPr b="0" lang="zh-CN" sz="900" spc="-1" strike="noStrike">
                <a:solidFill>
                  <a:srgbClr val="000000"/>
                </a:solidFill>
                <a:latin typeface="Book Antiqua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0" descr="cnbmlogo"/>
          <p:cNvPicPr/>
          <p:nvPr/>
        </p:nvPicPr>
        <p:blipFill>
          <a:blip r:embed="rId3"/>
          <a:stretch/>
        </p:blipFill>
        <p:spPr>
          <a:xfrm>
            <a:off x="8508960" y="6154560"/>
            <a:ext cx="50796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74480" y="1644120"/>
            <a:ext cx="82119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682560" indent="-42372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977760" indent="-29340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3" marL="1262160" indent="-28260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4" marL="1506600" indent="-24300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5" marL="1506600" indent="-24300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6" marL="1506600" indent="-24300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1920" y="6237000"/>
            <a:ext cx="863604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12</a:t>
            </a:r>
            <a:r>
              <a:rPr b="1" lang="zh-CN" sz="2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66400" y="4199040"/>
            <a:ext cx="8636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国建筑材料集团有限公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工作总结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1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工作要点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353200" y="6146640"/>
            <a:ext cx="2879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-172080" y="6581520"/>
            <a:ext cx="5601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DAF7-149A-4691-B76D-8EC6B77AE04F}" type="slidenum">
              <a:rPr b="0" lang="zh-CN" sz="900" spc="-1" strike="noStrike">
                <a:solidFill>
                  <a:srgbClr val="000000"/>
                </a:solidFill>
                <a:latin typeface="Book Antiqua"/>
                <a:ea typeface="宋体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0200" y="334080"/>
            <a:ext cx="82123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Lucida Sans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02:17:27Z</dcterms:created>
  <dc:creator>channons</dc:creator>
  <dc:description>Copyright 1999 MSDW</dc:description>
  <dc:language>en-US</dc:language>
  <cp:lastModifiedBy>Windows 用户</cp:lastModifiedBy>
  <cp:lastPrinted>1999-01-28T17:44:42Z</cp:lastPrinted>
  <dcterms:modified xsi:type="dcterms:W3CDTF">2012-11-27T05:19:05Z</dcterms:modified>
  <cp:revision>1423</cp:revision>
  <dc:subject/>
  <dc:title>Slide 1</dc:title>
</cp:coreProperties>
</file>